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3DF-A9FE-4C2E-BFAC-02DDC3E2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89B-020C-494E-9AFB-1A502175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CAB-2975-426B-BFD7-81788EB1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5FF-799B-40EE-93F8-59D510F4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BCA-DD97-4208-85CD-DC945C6F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44C-EB58-4821-AC77-D1AA9DDF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795-0F8F-4484-A851-7F5B4C8A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830-7A58-4353-A167-AE7663F3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1BD-55D7-4D94-AC70-ECDDE6BB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358-81F2-4463-A23A-2457EC55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E6F-A218-451F-ABA6-E920C08D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491-DC80-4BAC-9A21-A315174B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4F3D-15D1-4CB8-9442-F5ACAA1F2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GRESSIVE 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240" y="365760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0" y="5227560"/>
            <a:ext cx="91440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think were the reasons for the Progressive Movement in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hanging Face of Indust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 growth meant prosperous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entury began on optimistic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e of social, political, and economic problems from 1890s eme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nry Ford transformed auto industry with mass production (Model T/19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 industry changes face of n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16: Federal government began highway subsid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derick Taylor advocated “Scientific Management” to increase effici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welfare and morale suffered but pay increas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danger (Example-1911: Triangle Shirtwaist Company fi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stern farmers benefited from vast irrigation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rgeoning Tru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rend toward big business in industry accelerated after 19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ers provided for a wave of mer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DIVI455"/>
          <p:cNvPicPr/>
          <p:nvPr/>
        </p:nvPicPr>
        <p:blipFill>
          <a:blip r:embed="rId2"/>
          <a:stretch/>
        </p:blipFill>
        <p:spPr>
          <a:xfrm>
            <a:off x="228600" y="1981080"/>
            <a:ext cx="4368960" cy="4451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trianglecov1.jpeg"/>
          <p:cNvPicPr/>
          <p:nvPr/>
        </p:nvPicPr>
        <p:blipFill>
          <a:blip r:embed="rId3"/>
          <a:stretch/>
        </p:blipFill>
        <p:spPr>
          <a:xfrm>
            <a:off x="61920" y="2971800"/>
            <a:ext cx="5340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and Consu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production required mass consump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ing middle class consumed new inventions and entertai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Increase in leisure time because of shorten work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00–1920: New advertising techniques created demand for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s increased U.S. standard of liv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lth increasingly concentr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, blacks, immigrants, Mexican Americans entered work for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’s labor unions defended rights of women in work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Professional careers closed to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Safety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Fight for child labor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Niagara Movement" demands immediate respect for equal rights of African Ame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.E.B. Du Bois/NAACP/Urban Leag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migration to the United States, 1900-19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set up to "Americanize” immigr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igration limitations toward undesirables (quota system develo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igrants faced increasing hostil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IVI463"/>
          <p:cNvPicPr/>
          <p:nvPr/>
        </p:nvPicPr>
        <p:blipFill>
          <a:blip r:embed="rId3"/>
          <a:stretch/>
        </p:blipFill>
        <p:spPr>
          <a:xfrm>
            <a:off x="4876920" y="1828800"/>
            <a:ext cx="35607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F.L., led by Samuel Gompers was the largest u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cal organizations (IWW) win spectacular strikes with small nu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rs of class warfare increa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rs improved working conditions to avoid trou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 Henry Ford doubled w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IVI7233476"/>
          <p:cNvPicPr/>
          <p:nvPr/>
        </p:nvPicPr>
        <p:blipFill>
          <a:blip r:embed="rId3"/>
          <a:stretch/>
        </p:blipFill>
        <p:spPr>
          <a:xfrm>
            <a:off x="4648320" y="1600200"/>
            <a:ext cx="404316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2:36:00Z</dcterms:created>
  <dc:creator>Timothy Hall</dc:creator>
  <dc:description/>
  <cp:keywords/>
  <dc:language>en-US</dc:language>
  <cp:lastModifiedBy>Thaddeus J. Brooks</cp:lastModifiedBy>
  <cp:lastPrinted>2012-09-11T10:32:31Z</cp:lastPrinted>
  <dcterms:modified xsi:type="dcterms:W3CDTF">2013-10-28T14:15:45Z</dcterms:modified>
  <cp:revision>33</cp:revision>
  <dc:subject/>
  <dc:title>CHAPTER 22 THE PROGRESSIVE ERA</dc:title>
</cp:coreProperties>
</file>